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00E1-1E07-48D9-A227-0E9AB6DE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ect on set of partners to do part of investigation on the IWB and record for Consolidate and 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link to notebook for 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uide whole group in the summary of the misconceptions/struggles/partial understandings, perhaps assign tables to discuss one of the items with whole group if there isn’t a lot of al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 Timer to keep participants on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gs to sh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ccess CLIPS on the edugains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djust the fram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luster List – the meaning of grey vs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each of the three Icons: Calculator-variety of types, Wrench -tools, Book – on-line math gloss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the video and explain how there is a video for each CLIPS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how what you can access with the three new Icons: Chess – games, Link – other files, Apple – 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CLIPS in this cluster are set up, show sequence, select first CLIP to show that each CLIP has a number of activities, do not show any activities go to next pp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how the BLM 2.1 will be used: to make notes for your chosen CLIP and to record notes on the other CLIPS during group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lect on set of partners to do part of investigation on the IWB and record for Consolidate and debr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C7D-1A71-4C9F-8D87-4ECCC2A0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8B4-0BBD-46AE-AC17-3FC6268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ED4-C7E9-4233-A301-8AAF63AC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1A7-014D-411E-A00A-B9D62CD4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F40B-F9CD-45C5-B5C8-0AD86AE3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4CB7-58F8-49A7-BDDF-7154ED83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C2D-F744-480D-BBFA-A061C86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FD7B-3BA3-45F3-A08D-1BBC5E6D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250A-66D6-4A11-80F8-9DDEA243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7723-59D6-4308-9CE2-C9D85641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A229-FA09-4174-AFB4-B0C823CA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555-563F-4916-9BB4-F76230A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422-A218-4C90-9FD8-5910AAC9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3BA6-F3BC-4303-A4B4-3C6BB66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581-F89D-4975-B4BB-96E3939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DD1-A489-4BED-80D6-60DE8319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249D-75F3-4B04-A0C6-33A12BC3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F82-6A6D-44E8-AAD5-CD2716D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4DC-918A-449C-B826-E08B1407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CB2-8FA6-4EA7-B1C7-23584025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4C8-31A9-4C4B-8DCC-9EBFE32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8F7-C92D-4328-9030-3FF40DB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66A-8DB9-4E74-A8F8-006357E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93C-A667-4107-B32C-E01515F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48A3-748D-4608-AC67-161BDD233CB5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8088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eff4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2E3-02F5-43B0-85AA-4F97B94570E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Book Antiqua"/>
                <a:ea typeface="Arial"/>
              </a:rPr>
              <a:t>Session #2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pairs, select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ctivity from your CLIP to share with the who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your presentation (few minutes) highlight your response to one or more of the questions posed during the 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your template to make notes on the CLIPS that you didn’t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to consider for the presentations of your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address a common misunderstanding that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help students to develop understanding of the big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  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ew examples chosen from the Mathematical Processes Bookl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ing &amp; Proving: How can we show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lecting: What do you notice about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ng:  What are the connections between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 Going Deeper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urn and Talk Share question(s) with another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 of screen captures on the 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92360" y="3392640"/>
            <a:ext cx="32799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Consolidate Debrief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676520"/>
          <a:ext cx="654552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654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wo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27280" y="2097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y common misunderstandings that students have about trigonometric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awareness of Trig C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LIPS, the misunderstandings, and the big ideas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posing questions based on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content knowledge of t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 On:  Connect and Practice</a:t>
            </a:r>
            <a:r>
              <a:rPr b="0" lang="en-US" sz="2800" spc="-1" strike="noStrike">
                <a:solidFill>
                  <a:srgbClr val="0d469b"/>
                </a:solidFill>
                <a:latin typeface="Arial"/>
              </a:rPr>
              <a:t> (session 1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reate a question that would help students to meet the learning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xpectation, learning goal and question on char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nother set of pairs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he popsicle stick prompts during the peer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Reflec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learning goal question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your own brainstorm potential misconceptions/struggles/partial understandings of trigonometric functions that students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th a partner compare, contrast, summarize your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able groups, collate and p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12000" y="4724280"/>
            <a:ext cx="16588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our of CLIPS: Periodic &amp; Sine Functions and Their Trans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95640" y="3392640"/>
            <a:ext cx="219708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a partner, select one of the CLIPS from Tour of CLIPS, there are 7, we want to explore each of them and no more than two pairs may select the same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our of CLIPS to investigate how the CLIP connects to a potential misconception/struggle/partial understanding and the Big Ideas for Tr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to consider for your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address a common misunderstanding that students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es the CLIP help students to develop understanding of the big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kind of question(s) can be posed to see if students have developed the understanding of this big idea OR what scaffolding questions can be created to help support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8T21:46:08Z</dcterms:modified>
  <cp:revision>105</cp:revision>
  <dc:subject/>
  <dc:title>Slide 1</dc:title>
</cp:coreProperties>
</file>